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95A-1891-4F3A-9E1E-54891F96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3B2-FC95-4245-9904-0A55FC79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6C7-81FE-49C2-9A97-02EC043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635-D96D-4649-BCE9-518C252F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3A36-1F15-4D82-9CD5-61CB4D78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1541-33B3-461D-9FF9-B8E38ED7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9E53-F37A-4398-A04D-96390EF0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7319-5530-4701-BEDB-C40D0BA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2102-3CD5-4866-9DB4-98B6BAD9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9F94-19C9-40D9-9C0F-A3A90DDC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5D28-6D85-445F-B260-815DD297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003-80C0-4527-834D-A5456E4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EAE6-6FCA-4B67-878F-8299CAA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4E11-509E-4882-8C83-9EEEEC6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1482-6AD4-4667-98CC-3E4306A9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821F-F515-437B-B426-B9CEE257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9C22-33A8-4E61-885D-37C11634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50C-0376-490D-8B65-C9E99632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B5E-A061-42AE-8D26-2C5B376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889-9C6A-4CDE-9BFF-A2D27684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DA4-03E5-459A-B4C7-A611C4D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E1C-9854-4E0A-A169-A81AB1F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D01-4620-494E-8D39-42B609FE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886-8B7B-4BE5-A7DE-823A787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C065-E335-4DE4-A03B-F1B40E5CA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3416-0EDA-48DB-BC17-649A74631209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6028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НЕОТЛОЖНАЯ ПОМОЩЬ ПРИ ОСНОВНЫХ ПАТОЛОГИЧЕСКИХ СИНДРОМАХ И ЗАБОЛЕВАНИЯХ У ДЕТЕЙ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50560" y="-360"/>
            <a:ext cx="799308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1. Уложить больного в положение с приподнятым ножным концом, повернуть его голову набок, выдвинуть нижнюю челюсть для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предупреждения западения языка, асфиксии и предотвращения аспирации рвотными массами. Обеспечить поступление свежего воздуха или ингалировать кислород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2. Необходимо прекратить дальнейшее поступление аллергена в организм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а) при парентеральном введении аллергена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 приложить к месту ужаления приложить лед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б) при закапывании аллергенного медикамента носовые ходы и конъюнктивальный мешок необходимо промыть проточной водой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в) при пероральном приеме аллергена промыть больному желудок, если позволяет его состояние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3. Немедленно ввести внутривенно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0,1% раствор адреналина в дозе 0,05-0,1 мл/год жизни (не более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1,0 мл) 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3% раствор преднизолона в дозе 5 мг/кг внутривенно , внутримышечно, в мышцы       дна полости  рта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антигистаминные препараты: 1% раствор димедрола 0,05 мл/кг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(не более 0,5 мл - детям до года и 1,0 мл - старше года) или 2% раствор супрастина 0,1-0,15 мл/год жизни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Обязателен контроль за состоянием ребенка, его пульса, дыхания и АД!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4. После завершения первоначальных мероприятий обеспечить до-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ступ к вене и ввести внутривенно струйно 0,1% раствор адреналина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в дозе 0,05-0,1 мл/год жизни в 10,0 мл изотонического раствора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натрия хлорида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1600" y="188640"/>
            <a:ext cx="7772400" cy="70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5. Ввести внутривенно глюкокортикостероиды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3% раствор преднизолона 2-4 мг/кг (в 1 мл - 30 мг) ил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гидрокортизон 4-8 мг/кг (в 1 мл суспензии - 25 мг) ил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0,4% раствор дексаметазона 0,3-0,6 мг/кг (в 1 мл - 4 мг)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6. Начать проведение в/в инфузионной терапии 0,9% раствором натрия хлорида из расчета 20 мл/кг в течение 20-30 мин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В дальнейшем при отсутствии стабилизации гемодинамики повторно вводится коллоидный раствор (ГЭК 6%, Гелофузин) в дозе 10 мл/кг. Объем и скорость инфузионной терапии определяется величиной АД, ЦВД и состоянием больного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7. Если АД остается низким, вводить а-адреномиметики внутривенно через каждые 10-15 мин до улучшения состояния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0,1% раствор адреналина 0,05-0,1 мл/год жизни (суммарная доза до 5 мг) ил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0,2% раствор норадреналина 0,1 мл/год жизни (не более 1,0 мл)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ил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1% раствор мезатона 0,1 мл/год жизни (не более 1,0 мл)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8. При отсутствии эффекта в/в титрованное введение допамина в дозе 8-10 мкг/кг в мин под контролем АД и ЧСС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9. При бронхоспазме и других расстройствах дыхания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проводить оксигенотерапию;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ввести 2,4% раствор эуфиллина 0,5-1,0 мл/год жизни (не более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10,0 мл) в/в струйно на 20 мл изотонического раствора натрия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хлорида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удалять накопившийся секрет из трахеи и ротовой полости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- при появлении стридорозного дыхания и отсутствии эффекта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от комплексной терапии необходима немедленная интубация,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а в некоторых случаях по жизненным показаниям — коникотомия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10. При необходимости - проведение комплекса сердечно-легочной реанимации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Госпитализация в реанимационное отделение после проведения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</a:rPr>
              <a:t>комплекса неотложных лечебных мероприятий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филактика анафилактического шока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точно собранный аллергоанамнез личный и семейный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у больных с аллергическим анамнезом на сигнальном листе истории болезни ставят штамп «аллергия» и перечисляют лекарственные препараты, вызывающие аллергию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после инъекций антибиотиков необходимо наблюдать больного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в течение 10-20 мин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медперсонал процедурных, хирургических кабинетов, медпунктов должен быть специально подготовлен для оказания неотложной медицинской помощи при лекарственном анафилактическом шоке и лечении подобных состояний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Во всех процедурных, хирургических и прочих кабинетах, в мед-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унктах необходимо иметь набор медикаментов для оказания неотлож-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ной помощи при анафилактическом шок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716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тек Квинке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66ccff"/>
                </a:solidFill>
                <a:latin typeface="Arial"/>
              </a:rPr>
              <a:t>Отек Квинке</a:t>
            </a: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— </a:t>
            </a:r>
            <a:r>
              <a:rPr b="1" i="1" lang="ru-RU" sz="3600" spc="-1" strike="noStrike">
                <a:solidFill>
                  <a:srgbClr val="336699"/>
                </a:solidFill>
                <a:latin typeface="Arial"/>
              </a:rPr>
              <a:t>аллергическая реакция немедленного типа, проявляющаяся ангионевротическим отеком  с распространением на кожу, подкожную клетчатку, слизистые обол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1. Немедленно прекратить поступление аллерген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. Ввести антигистаминные препараты в/м или в/в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2% раствор супрастина 0,1-0,15 мл/год жизн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3. Ввести 3% раствор преднизолона в дозе 1-2 мг/кг в/м или в/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4. По показаниям при нарастающем отеке гортани с обтурационной дыхательной недостаточностью проведение интубации или трахеостоми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спитализация в соматическое отделени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98100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рапивница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66ccff"/>
                </a:solidFill>
                <a:latin typeface="Arial"/>
              </a:rPr>
              <a:t>Крапивница</a:t>
            </a: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— аллергическая реакция немедленного типа, характеризующаяся быстрым появлением уртикарных высыпаний на коже и реже на слизистых оболочках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600" y="260280"/>
            <a:ext cx="7772400" cy="553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1. Немедленно прекратить поступление аллерген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2. Назначить антигистаминные препараты внутрь (кларитин, кестин, зиртек, телфаст) или в/м (см. отек Квинке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3. При распространенной или гигантской крапивнице с лихорадкой ввести 3% раствор преднизолона 1-2 мг/кг в/м или в/в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4. Провести энтеросорбцию активированным углем в дозе 1 г/кг в сут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спитализация в соматическое отделение показана при отсутствии эффекта от проводимой терапии. Также подлежат госпитализации больные, которым на догоспитальном этапе в связи с тяжестью состояния вводился преднизоло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16000" y="333000"/>
            <a:ext cx="802800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Острые нарушения кровообраще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Обморо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Обморок (синкопальное состояние) — внезапная кратковременная потеря сознания с утратой мышечного тонуса вследствие преходящих нарушений мозгового кровообращени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аиболее частые причины обмороков у детей: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1. Синкопе вследствие нарушения нервной регуляции сосудов: вазовагальные, ортостатические, синокаротидные, рефлекторные, ситуационные, при гипервентиляционном синдром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2. Кардиогенные синкопе при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брадиаритмиях (атриовентрикулярная блокада П-Ш степени с приступами Морганьи-Эдамса-Стокса, синдром слабости синусового узла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тахиаритмиях (пароксизмальная тахикардия, в том числе при синдроме удлиненного интервала QT, мерцательная аритмия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механическом препятствии кровотоку на уровне сердца или крупных сосудов (стеноз аорты, гипертрофический субаортальный стеноз, недостаточность аортальных клапанов и др.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3. Гипогликемические синкоп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4. Цереброваскулярные и др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Неотложная помощь:</a:t>
            </a:r>
            <a:br>
              <a:rPr sz="4400"/>
            </a:b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620280"/>
            <a:ext cx="756144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1. Уложить ребенка горизонтально, приподняв ножной конец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на 40-50°. Расстегнуть воротничок, ослабить пояс и другие детал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одежды, оказывающие давление на тело. Обеспечить доступ свежего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воздуха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2. Использовать рефлекторные воздействия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обрызгать лицо водой или похлопать по щекам влажным поло-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тенцем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дать вдохнуть пары нашатырного спирта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При выходе из этого состояния дать выпить горячий сладкий чай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3. При затянувшемся обмороке назначить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10% раствор кофеина-бензоата натрия 0,1 мл/год жизни п/к ил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раствор кордиамина 0,1 мл/год жизни п/к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4. При выраженной артериальной гипотензии ввести 1% раствор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мезатона 0,1 мл/год жизни в/в струйно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5. При гипогликемическом состоянии ввести 20-40% раствор глюкозы 2 мл/кг в/в струйно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6. При выраженной брадикардии и приступе Морганьи-Эдамса-Стокса провести первичные реанимационные мероприятия: непрямой массаж сердца, введение 0,1% раствора атропина 0,01 мл/кг в/в струйно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Госпитализация при обморочном состоянии функционального генеза не показана, но если есть подозрение на органическую причину, необходима госпитализация в профильное отделение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Лихорадка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052280"/>
            <a:ext cx="759456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Лихорадка — защитно-приспособительная реакция организма, возникающая в ответ на воздействие патогенных раздражителей и характеризующаяся перестройкой процессов терморегуляции, приводящей к повышению температуры тела, стимулирующей естественную реактивность организм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Коллапс</a:t>
            </a:r>
            <a:br>
              <a:rPr sz="4800"/>
            </a:b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692280"/>
            <a:ext cx="759456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оллапс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Коллапс — угрожающая жизни острая сосудистая недостаточность, характеризующаяся резким снижением сосудистого тонуса, уменьшением объема циркулирующей крови, признаками гипоксии мозга и угнетением жизненно важных функци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Наиболее частые причины коллапса у детей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1. Тяжелое течение острой инфекционной патологии (кишечна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инфекция, грипп, ОРВИ, пневмония, пиелонефрит, ангина и др.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2. Острая надпочечниковая недостаточность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3. Передозировка гипотензивных средст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4. Острая кровопотер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5. Тяжелая травм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560" y="188640"/>
            <a:ext cx="788508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1. Уложить ребенка горизонтально на спину со слегка запрокинутой головой, обложить теплыми грелками и обеспечить приток свежего воздуха.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2. Обеспечить свободную проходимость верхних дыхательных путей: провести ревизию ротовой полости,  растегнуть/снять стесняющую одежду.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3. При явлениях симпатотонического коллапса необходимо: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а) снять спазм периферических сосудов в/м введением спазмолитиков: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2% раствор папаверина 0,1 мл/год жизни или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0,5% раствор дибазола 0,1 мл/год жизни или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раствор но-шпы 0,1 мл/год жизни;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б) при нейротоксикозе, острой надпочечниковой недостаточности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уже в этой фазе необходимо назначение глюкокортикоидов в/в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струйно или в/м: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гидрокортизон (предпочтительнее!) в разовой дозе 4 мг/кг или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преднизолон в дозе 1-2 мг/кг.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4. При явлениях ваготонического и паралитического коллапса: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а) обеспечить доступ к периферической вене и начать инфузионную терапию  кристаллоидами (0,9% раствор натрия хлорида,  р-р Рингера, Стерофундина) или коллоидами  ГЭК 6 % , Гелофузин ) из расчет 20 мл/кг в течение 20-30 мин;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б) одновременно ввести глюкокортикостероиды в разовой дозе: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гидрокортизон 10-20 мг/кг в/в или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преднизолон 5-10 мг/кг в/в или в/м, или в мышцы дна полости  рта или  в\м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дексаметазон 0,3-0,6 мг/кг (в 1 мл 0,4% раствора - 4 мг) в/в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или в/м;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в) при некупирующейся артериальной гипотензии: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повторно ввести в/в капельно 0,9% раствор натрия хлорида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или раствор Рингера в объеме 10 мл/кг в сочетании с раствором </a:t>
            </a:r>
            <a:r>
              <a:rPr b="1" lang="ru-RU" sz="1200" spc="-1" strike="noStrike" u="sng">
                <a:solidFill>
                  <a:srgbClr val="336699"/>
                </a:solidFill>
                <a:uFillTx/>
                <a:latin typeface="Arial"/>
              </a:rPr>
              <a:t>ГЭК 6%-</a:t>
            </a: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10 мл/кг под контролем ЧСС, АД и диуреза;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назначить 1% раствор мезатона 0,1 мл/год жизни в/в струйно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медленно или внутрикостно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- 0,2% раствор норадреналина 0,1 мл/год жизни в/в капельно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(в 50 мл 5% раствора глюкозы) со скоростью 10-20 капель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в мин (в очень тяжелых случаях - 20-30 капель в мин) под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контролем АД.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7160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ведение норадреналина п/к и в/м не рекомендуется из-за опасности возникновения некроза на месте инъекции (только в исключительных случаях, когда невозможно ввести в вену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5. При отсутствии эффекта от проводимых мероприятий в/в титрованное введение допамина в дозе 8-10 мкг/кг в мин под контролем АД и ЧСС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6. По показаниям - проведение первичной сердечно-легочной реанимаци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Госпитализация в реанимационное отделение после оказани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еотложных мероприяти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404640"/>
            <a:ext cx="759312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Шок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Шок - остро развивающийся, угрожающий жизни патологический процесс, характеризующийся прогрессирующим снижением тканевой перфузии, тяжелыми нарушениями деятельности ЦНС, кровообращения, дыхания и обмена веществ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1. Уложить больного в горизонтальное положение с приподнятыми под углом 15-20° нижними конечностями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2. Обеспечить свободную проходимость верхних дыхательных путей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3. Дать увлажненный 100% кислород через плотно прилегающую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маску или носовой катетер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4. Устранить, по возможности, основную причину (прекратить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введение причинного аллергена, остановить наружное кровотечение, купировать болевой синдром, напряженный пневмоторакс,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перикардиальную тампонаду и др.)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5. При признаках декомпенсации кровообращения обеспечить доступ к вене и при отсутствии признаков отека легкого и низком ЦВД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начать проведение инфузионной терапии кристаллоидными (раствор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Рингера, 0,9% раствор натрия хлорида) и коллоидными растворам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(реополиглюкин, полиглюкин, 6% ГЭК, 5% альбумин)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Выбор стартового препарата, объем и соотношение растворов определяются как патогенетическим вариантом шока, так и основным заболеванием. Инфузионная терапия проводится под контролем ЧСС, АД, аускультативной картины в легких, диуреза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Если эти параметры улучшились, в/в введение жидкости следует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продолжить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Если в процессе инфузионной терапии появляются хрипы в легких, нарастают тахикардия и одышка - немедленно прекратить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инфузию и провести коррекцию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6. После начала инфузионной терапии при артериальной гипотензии назначить в/в титрованно допамин в дозе 6-8-10 мкг/кг в мин под контролем АД и ЧСС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Первоначально необходимо приготовить «матричный» раствор: официнальный раствор (содержащий в 1 мл 40 мг) развести в 100 раз -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1,0 мл на 100 мл 0,9% раствора натрия хлорида или 5% раствора глюкозы. Препарат вводится в/в капельно или микроструйно с помощью инфузионных насосов. Дозировка (скорость в/в введения) допамина зависит от задач терапии и подбирается индивидуально. Переливание этого раствора в дозе 0,3 мл/кг в час (1-2 мкг/кг в мин) обеспечивает периферические сосудорасширяющие эффекты допамина (повышает диурез). Такое разведение в дозе 0,6 мл/кг в час (3-5 мкг/кг в мин) окажет кардиостимулирующий эффект (увеличивает минутный объем крови), а 1,2 мл/кг в час (8-10 мкг/кг в мин) - сосудосуживающий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7. Проводить коррекцию сопутствующих состояний (даже если они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е установлены твердо, но высоковероятны): гипогликемии в/в введением 20-40% раствора глюкозы в дозе 2 мл/кг; метаболического ацидоза под контролем КОС; надпочечниковой недостаточности (см. соответствующий раздел)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8. При необходимости проведение комплекса мероприятий сердечно-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легочной реанимаци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Госпитализация в реанимационное отделени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280" y="259920"/>
            <a:ext cx="817236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Инородные тела дыхательных путей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Аспирация инородного тела в дыхательные пути может создать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чрезвычайную угрозу для жизни ребенка. Инородные тела гортан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 трахеи — одна из наиболее частых причин мгновенной асфикси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у детей. Подавляющее большинство смертей от аспирации инородного тела приходится на возраст до 5 лет, причем более чем в половине случаев - возраст меньше одного год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Неотложная помощь</a:t>
            </a:r>
            <a:endParaRPr b="1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и попадании инородного тела в устье гортани и нарастающей асфиксии, угрожающей жизни ребенка, необходимо попытаться срочно извлечь его, чтобы предотвратить возможный фатальный исход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ачальная тактика при обструкции дыхательных путей инородным телом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если ребенок без сознания и не дышит — попытаться освободить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ыхательные пути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если ребенок в сознании - успокоить его и уговорить не сдерживать кашель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можно быстрее вызвать реанимационную бригад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Активные вмешательства предпринимаются, только когда кашель становится слабым, усиливается или ребенок теряет сознани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-360"/>
            <a:ext cx="81010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качестве первой помощи рекомендуются следующие приемы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Для детей старше 1 года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1. Выполнить прием Геймлиха: находясь сзади сидящего или стоящего ребенка, обхватить его руками вокруг талии, надавить на живо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по средней линии живота между пупком и мечевидным отростком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и произвести резкий толчок на себя и вверх до 5 раз с интервалом в 3 сек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Если больной без сознания и лежит на боку, врач устанавливает на его  эпигастральную область ладонь своей левой руки и кулаком правой  руки наносит короткие повторные удары (5-8 раз) под углом 45° в сторону диафрагмы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 выполнении этого приема возможны осложнения: перфорация или разрыв органов брюшной и грудной полостей,  регургитация желудочного содержимого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22160" y="0"/>
            <a:ext cx="75214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. Осмотреть ротовую полость, и если инородное тело видно — его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извлекают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3. При отсутствии эффекта повторить приемы до прибытия бригады скорой помощ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Из-за риска усугубления обструкции пальцевое удаление инородного тела вслепую у детей противопоказано!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Если инородное тело не обнаружено: решение вопроса о проведении трахеотомии или интубации трахеи, госпитализация срочна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оториноларингологическое или хирургическое отделени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и инородных телах бронхов - срочная госпитализация для проведения бронхоскопии с целью удаления инородного тела. При транспортировке: больного успокоить, придать возвышенное положение, проводить оксигенотерапи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016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аиболее частыми причинами лихорадки у детей являются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1. Инфекционно-токсические состояни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2. Тяжелые метаболические расстройств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3. Перегревани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4. Аллергические реакци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5. Посттрансфузионные состояни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6. Применение миорелаксантов у предрасположенных дете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7. Эндокринные расстройств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НЕОТЛОЖНАЯ ПОМОЩЬ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ПРИ НЕСЧАСТНЫХ СЛУЧАЯХ У ДЕТЕЙ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равле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Неотложная помощ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1. Удаление пострадавшего из очага поражени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2. Первичные мероприятия: удаление невсосавшегося яда с кожи,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слизистых, из желудочно-кишечного тракт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3. Удаление всосавшегося яд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4. Антидотная терапи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5. Симптоматическая терапи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вичные мероприятия по удалению яда с кожи и слизистых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1. Снять осторожно одежду, загрязненную ядом. Обмыть пораженные участки кожи теплым мыльным раствором (не втирая!) с последующим орошением проточной водо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. В зависимости от ядовитого вещества для его удаления можно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именить следующие эффективные средства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и попадании на кожу калия перманганата - 1% раствор лимонной, аскорбиновой кислоты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С (карбофос, хлорофос, дихлофос) — 2-3% раствор нашатырного спирта или 4% раствор натрия бикарбонат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енола - растительное (не вазелиновое) масло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слоты - 5% раствор натрия бикарбонат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щелочи — 1% раствор уксус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8028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вичные мероприятия по удалению яда из желудочно-кишечного тракт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1. При отсутствии противопоказаний у ребенка старшего возраст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целесообразно вызвать рвот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 качестве рвотного средства используют теплый раствор поваренной соли - 1-2 ст. ложки на 1 стакан воды или порошок горчицы - 1-2 чайные ложки на стакан теплой воды. Для вызова рвоты нажимают на корень языка пальцем или шпателем. Спонтанная или вызванная рвота не исключает последующего промывания желуд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716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ызов рвоты противопоказан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у детей, находящихся в бессознательном состоянии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ри проглатывании сильных кислот, щелочей, бензина, скипидара, фенолола и других веществ, повреждающих слизистые оболочки, пенящихся жидкостей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. После рвоты дать выпить взвесь активированного угля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детям до 3 лет -1/2 стакана воды с 5 измельченными таблетками карболен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3-7 лет - 2/3 стакана воды с 7 таблетками карболен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старше 7 лет - 10 таблеток карболена на стакан вод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3. Провести зондовое промывание желудк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ыбрать зонд: для детей младшего возраста - назогастральный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ля старших детей - широкий желудочный зонд диаметром 10-12 мм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лина зонда должна соответствовать расстоянию от кончика нос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о основания мечевидного отростка плюс 10 см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и отравлении бензином, керосином, скипидаром, фенолом перед промыванием ввести в желудок вазелиновое или касторовое масло в дозе 2 мл/к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ля промывания обычно используется вода комнатной температуры или физиологический раствор натрия хлорида. Общий объем жидкости у детей до года - 100 мл/кг, старше года - 1 л/год (не более 8-10 л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дномоментно вводимые количества жидкости (мл)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ворожденные - 15-20 мл; 1-2 мес - 60-90 мл; 3-4 мес - 90-100 мл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5-6 мес. - 100-110 мл; 7-8 мес - 110-120 мл; 9-12 мес - 120-150 мл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-3 года - 200-250 мл; 4-5 лет - 300-350 мл; 6-7 лет - 350-400 мл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8-11 лет - 400-450 мл; 12-15 лет - 450-500 м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омывают желудок до чистых промывных вод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тивопоказания к зондовому промыванию желудка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 судорожный синдром, декомпенсация кровообращения и дыхания -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ромывание временно отложить до стабилизации состояния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 отравления прижигающими или повреждающими слизистую пищевода и желудка средствами, если прошло более двух часов (из-за опасности перфорации зондом стенки органов)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- отравления барбитуратами спустя 12 часов после приема яда (поскольку снижается тонус гладких мышц, промывание желудка рекомендуется в первые 2-3 часа после приема яда, в поздние сроки - только отсасывание желудочного содержимого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71600" y="18864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4. В качестве слабительного средства ввести через зонд в желудок (в конце его промывания) солевое слабительное: магния сульфат (сернокислую магнезию) или натрия сульфат (сернокислый натрий) в дозе 0,5 г/кг (15 г сухого вещества на 100 мл воды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и отравлении кислотами и щелочами (прижигающими ядами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левые слабительные противопоказаны!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5. При нахождении яда в организме более 2 часов можно поставить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чистительную, а затем сифонную клизму. Для очистительной клизмы берется вода комнатной температур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аблице представлены необходимые возрастные количеств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жидк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332000" y="-603360"/>
            <a:ext cx="7993080" cy="7461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76000" y="189000"/>
            <a:ext cx="7667640" cy="72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отложная помощь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При «красной» гипертермии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1. Ребенка раскрыть, максимально обнажить; обеспечить доступ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свежего воздуха, не допуская сквозняков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2. Назначить обильное питье (на 0,5-1 л больше возрастной нормы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жидкости в сутки)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3. Использовать физические методы охлаждения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- обдувание вентилятором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- прохладная мокрая повязка на лоб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- холод (лед) на область крупных сосудов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-полу спиртовый  раствор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Обтирают влажной салфеткой , дают ребенку обсохнуть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повторяют 2-3 раза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4. Назначить внутрь (или ректально)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- </a:t>
            </a: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парацетамол в разовой дозе 10-15 мг/кг внутрь или в свечах ректально 15-20 мг/кг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- ибупрофен (нурофен)в разовой дозе 5-10 мг/кг (для детей старше 1 года).(Примичание:* ацетилсалициловой кислоты (аспирина) и метамизола (анальгина) в педиатрической практике должно быть ограничено)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5. Если в течение 30-45 мин температура тела не снижается, ввести антипиретическую смесь внутримышечно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- 50% раствор анальгина детям до года - в дозе 0,01 мл/кг, старше 1 года — 0,1 мл/год жизни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-  </a:t>
            </a: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хлоропирамин (супрастин)  детям до года - в дозе  0,01 мл/кг,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   </a:t>
            </a: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старше 1 года - 0,1-0,15 мл/год жизни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Допустима комбинация лекарственных средств в одном шприце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6. При отсутствии эффекта через 30-60 мин можно повторить введение антипиретической смеси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71600" y="259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пловой и солнечный удары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— патологическое состояние, обусловленное общим перегреванием организма, сопровождающееся повышением температуры тела, прекращением потоотделения и утратой сознани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Солнечный удар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— особая форма теплового удара, возникающа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при прямом воздействии солнечных лучей на голову ребен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1. Устранить воздействие тепла, переместив ребенка в тень ил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рохладное помещение; уложить горизонтальное положение, голову покрыть пеленкой, смоченной холодной водо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2. При начальных проявлениях теплового удара и сохраненном со-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знании дать обильное питье глюкозо-солевым раствором (по 1/2 чайной ложки натрия хлорида и натрия бикарбоната, 2 ст. ложки сахара на 1 л воды) не менее объема возрастной суточной потребности в вод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3. При развернутой клинике теплового удара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проводить физическое охлаждение холодной водой с постоянным растиранием кожных покровов (прекратить при снижении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t тела ниже 38,5°С)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обеспечить доступ к вене и начать в/в введение раствора Физиологического раствора 0,9 % в дозе 20 мл/кг час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и судорожном синдроме ввести 0,5% раствор седуксена 0,05-0,1 мл/кг (0,3-0,5 мг/кг) в/м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ксигенотерапия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при прогрессировании расстройств дыхания и кровообращ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казано проведение интубации трахеи и перевод на ИВ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71600" y="333360"/>
            <a:ext cx="777240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Госпитализация детей с тепловым или солнечным ударом в реанимационное отделение после оказания первой помощи. Детям с начальными проявлениями без утраты сознания госпитализация показана при сочетании перегревания с диареей и соледефицитным обезвоживанием, а также при отрицательной динамике клинических проявлений при наблюдении за ребенком в течение 1 час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Утопление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Утопление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— острое состояние, возникающее в результате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погружения в воду; может быть двух типов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полное или истинное («мокрое»), при котором вода сразу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попадает в легкие пострадавшего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неполное («сухое»), при котором первично возникает рефлекторный ларингоспазм с гипоксией, гиперкапнией и фибрилляцией желудочков либо рефлекторная остановка сердца «синкопальное утопление»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18864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отложная помощь должна оказываться на месте сразу же после извлечения ребенка из воды - на берегу или на борту спасательного судн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ри попытке помочь утопающему обязательно помнить о мерах собственной безопасности (использовать вспомогательные средства - спасательный круг, надувной жилет и др.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1. Прекратить поступление воды в дыхательные пу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. Освободить полость рта и верхние дыхательные пути от воды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еска (ила, водорослей и др.), воспользовавшись марлевым тампоном, носовым платком или другой мягкой ткань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3. Создать дренажное положение для удаления воды - перегнуть пострадавшего через свое согнутое бедро лицом вниз и нанести удары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адонью между лопатками или приподнять, обхватив руками под эпигастральную область, надавливая на нижние отделы грудной клетк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Этим методом не пользуются, если остановка дыхания и сердечной деятельности имеют рефлекторный характер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4. Приступить к проведению искусственного дыхания и, по показаниям, к комплексной сердечно-легочной реанимации по общим правилам при клинической смерти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Если самостоятельное дыхание и сердечная деятельность не восстанавливаются, то реанимацию продолжают 30-40 ми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5. Оксигенотерап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6. Если сознание у пострадавшего сохранено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снять мокрую одежду, растереть его спиртом и тепло укутать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- дать горячее питье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и возбуждении - настойки седативных трав (валериана, пустырник) внутрь в дозе 1-2 капли/год жизни, ввести 0,5% раствор седуксена в дозе 0,05 мл/кг (0,3 мг/кг) в/м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Госпитализация в соматическое или реанимационное отделение после оказания первой помощ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619280" y="549000"/>
            <a:ext cx="7524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кусы пчел, ос, шмелей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Укусы пчел, ос, шмелей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сходны по характеру повреждения, их яды обладают гемолитическим, нейротоксическим и гистаминоподобным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ействием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1. Удалить из ранки жало (пинцетом или пальцами); место укуса обработать спиртом, эфиром или одеколоном, приложить холод (лёд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2. Дать обильное горячее пить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3. При общей реакции ввести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0,1% раствор адреналина в дозе 0,1 мл/год жизни п/к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антигистаминные препараты: 2,5% раствор пипольфена ил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2% раствор супрастина в дозе 0,1-0,15 мл/год жизни в/м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если симптомы интоксикации сохраняются, через 20-60 мин повторно инъекция адреналина в той же доз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Госпитализация показана при признаках гиперергической реакции в соматическое или реанимационное отделение после проведения противошоковых мероприятий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 «белой» гипертермии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дновременно с жаропонижающими средствами (см. выше) дать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осудорасширяющие препараты внутрь или внутримышечно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папаверин или но-шпа в дозе 1 мг/кг внутрь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2% раствор папаверина детям до 1 года — 0,1-0,2 мл, старше 1 года —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0,1-0,2 мл/год жизни или раствор но-шпы в дозе 0,1 мл/год жизни, или 1% раствор дибазола в дозе 0,1 мл/год жизни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- можно также использовать 0,25% раствор дроперидола в дозе 0,1-0,2 мл/кг (0,05-0,25 мг/кг) в/м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 гипертермическом синдроме температура тела контролируется каждые 30-60 мин. После понижения температуры тела до37,5°С лечебные гипотермические мероприятия прекращаются, так как в дальнейшем она может понижаться без дополнительных вмешательств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Дети с гипертермическим синдромом, а также с некупирующейся «белой» лихорадкой после оказания неотложной помощи должны быть госпитализированы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716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кусы клещей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лещи вида иксодовых могут явиться потенциальным источником инфицирования ребенка вирусом клещевого энцефалит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ередача инфекции происходит при укусе клеща. Укусы клещей обычно вызывают местное воспаление и зуд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48512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1. Удалить клеща пинцетом, а не руками (опасность оторвать и оставить в теле пострадавшего головку насекомого). Предварительно клеща смазать бензином (керосином или ацетоном, растительным маслом), чтобы нарушить его дыхани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2. Ранку от укуса обработать любым антисептико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3. Учитывая эндемичность нашего региона, обеспечить проведение специфической серопрофилактики клещевого энцефалит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18864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кусы собак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бака может явиться потенциальным источником инфицирования ребенка вирусом бешенства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ередача инфекции осуществляется при укусе  и ослюнении поврежденной кожи. При этом инфицированные животные могут быть заразными за 10 дней до появления у них первых признаков болезни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аибольшую опасность представляют укусы в голову и лицо, опасны также глубокие рваные ра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Раны от собачьих укусов, как правило, сильно загрязнены слюной и имеют выраженную наклонность к инфицировани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71600" y="18864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сли кровотечение из раны не слишком сильное, не пытаться сразу же остановить его, т. к. с кровью из раны вымывается слюна собак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2. Место укуса промыть мыльным раствором (лучше хозяйственным или специальным антибактериальным) или 3% раствором перекиси водорода. Не рекомендуется обработка раны спиртом, йодом,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одеколоном (возможен ожог обнаженных тканей)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3. Кожу вокруг укуса обработать 5% спиртовой настойкой йода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4. Наложить на рану стерильную повязку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5. Доставить пострадавшего в ближайшее медицинское учреждение; сделать это необходимо даже в том случае, если укусившая собака домашняя и привита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осле обработки раны принимается решение о необходимости иммунизации антирабической вакциной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473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Укусы змей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907920"/>
            <a:ext cx="8028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Неотложная помощь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1. Ребенка срочно уложить, создать максимальный физический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покой. Нельзя ходить и сидеть, т. к. это значительно ускоряет распространение яда из очага поражения и может быть причиной обморочного состояния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2. Немедленно отсосать яд из ранок ртом в течение 10-15 мин (это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позволяет удалить 30-50% введенного яда); высосать яд легче, если широко захватить место укуса в складку и осторожным, но сильным нажимом выдавить из ранки каплю жидкости; в процессе этой процедуры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высасываемый яд постоянно сплевывается (процедура безопасна, т. к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змеиный яд, попавший в рот и желудок, отравления не вызывает)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3. После отсасывания место укуса смазать спиртовым раствором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йода или бриллиантовой зелени, наложить асептическую повязку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и провести иммобилизацию пораженной конечности в физиологическом положении повязкой или лангетой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4. Ввести обезболивающие и антигистаминные средства: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50% раствор анальгина в дозе 0,1 мл/год жизни в/м;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- 2,5% раствор шшольфена или 2% раствор супрастина в дозе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0,1-0,15 мл/год жизни в/м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5. При развитии анафилактического шока тактику см. в соответствующем разделе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Госпитализация срочная в ближайшее лечебное учреждение ил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в токсикологическое отделение. Транспортируют больного в положении лежа. В условиях медицинского учреждения одним из эффективных средств обезвреживания змеиного яда в организме является противозмеиная лечебная сыворотка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При укусе змеи противопоказаны: прижигание места укуса, обкалывание его любыми препаратами, разрезы, наложение жгута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на пораженную конечность!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Заключение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000" y="1267920"/>
            <a:ext cx="76662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 завершение еще раз подчеркнем, что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неотложная помощь детям может оказаться эффективной даже при использовании простых, доступных методов диагностики и лечения, но должна быть максимально ранней и минимально агрессивной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воевременно и правильно оказанная неотложная помощь подчас не только спасает жизнь ребенку, но обеспечивает дальнейшее успешное лечение, предупреждает развитие тяжелых осложнений, исключает потерю трудоспособност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99"/>
                </a:solidFill>
                <a:latin typeface="Arial"/>
              </a:rPr>
              <a:t>Благодарю за внимание!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2. Судорожный синдром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836640"/>
            <a:ext cx="774072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ff"/>
                </a:solidFill>
                <a:latin typeface="Arial"/>
              </a:rPr>
              <a:t>Судороги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— внезапные непроизвольные приступы тонико-клонических сокращений скелетных мышц, сопровождающиеся нередко потерей сознан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аиболее частые причины судорог у детей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1. Инфекционные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менингит и менингоэнцефалит;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нейротоксикоз на фоне ОРВИ;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фебрильные судорог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2. Метаболические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гипогликемические судороги;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гипокальциемические судорог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Гипоксические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аффективно-респираторные судороги;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при гипоксически-ишемической энцефалопатии;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при выраженной дыхательной недостаточности;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при выраженной недостаточности кровообращения;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при коме III любой этиологии и др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4. Эпилептические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идиопатическая эпилепс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5. Структурные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- на фоне различных органических изменений в ЦНС (опухоли, травмы, аномалии развития и др.)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Эпилептический приступ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000" y="907920"/>
            <a:ext cx="76662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ff"/>
                </a:solidFill>
                <a:latin typeface="Arial"/>
              </a:rPr>
              <a:t>Эпилепсия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— хроническое прогрессирующее заболевание, проявляющееся повторными пароксизмальными расстройствами сознания и судорогами, а также нарастающими эмоционально-психическими изменениям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линическая диагности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сновными клиническими формами являются: большой судорожный припадок и малые эпилептические приступы. Большой судорожный припадок включает продром, тоническую и клоническую фазы, постприступный период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Неотложная помощь: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7840" y="764640"/>
            <a:ext cx="7705800" cy="65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1. Уложить больного на плоскую поверхность (на пол) и подложить под голову подушку или валик; голову повернуть набок и обеспечить доступ свежего воздуха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2. Восстановить проходимость дыхательных путей: очистить ротовую полость и глотку от слизи, вставить роторасширитель или шпатель, обернутый мягкой тканью, чтобы предотвратить прикусывание языка, губ и повреждение зубов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3. Если судороги продолжаются более 3-5 мин, ввести 0,5% раствор седуксена (реланиума) в дозе 0,05 мл/кг (0,3 мг/кг) в/м или в мышцы дна полости рта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4. При возобновлении судорог и эпилептическом статусе обеспе-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чить доступ к вене и ввести 0,5% раствор седуксена в дозе 0,05 мл/кг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(0,3 мг/кг)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5. Ввести 25% раствор сульфата магния из расчета 1,0 мл/год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жизни, а детям до года - 0,2 мл/кг в/м или 1% раствор лазикса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0,1-0,2 мл/кг (1-2 мг/кг) в/в или в/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6. При отсутствии эффекта ввести 20% раствор оксибутирата натрия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(ГОМК) 0,5 мл/кг (100 мг/кг) на 10% растворе глюкозы в/в медленно (!) во избежание остановки дыхан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Госпитализация после оказания неотложной помощи в стационар,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имеющий неврологическое отделение, при эпилептическом статусе -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в реанимационное отделение. В дальнейшем необходим подбор или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коррекция базисной терапии эпилепси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764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3. Острые аллергические реакци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907920"/>
            <a:ext cx="737892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Анафилактический шок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Анафилактический шок - остро развивающийся, угрожающий жизни патологический процесс, обусловленный аллергической реакцией немедленного типа при введении в организм аллергена, характеризующийся тяжелыми нарушениями кровообращения, дыхания, деятельности ЦНС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99"/>
                </a:solidFill>
                <a:latin typeface="Times New Roman"/>
              </a:rPr>
              <a:t>Чаще развивается в ответ на парентеральное введение лекарственных препаратов (пенициллин, сульфаниламиды, рентгеноконтрастные вещества, сыворотки, вакцины, белковые препараты и др.), а также при проведении провокационных проб с пыльцевыми и реже с пищевыми аллергенами, при укусах насекомых. Характеризуется быстротой развития - через несколько секунд или минут после контакта с «причинным» аллергеном.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01:31:59Z</dcterms:created>
  <dc:creator>Zaychkina</dc:creator>
  <dc:description/>
  <dc:language>en-US</dc:language>
  <cp:lastModifiedBy>Анджела</cp:lastModifiedBy>
  <dcterms:modified xsi:type="dcterms:W3CDTF">2021-05-23T00:44:48Z</dcterms:modified>
  <cp:revision>31</cp:revision>
  <dc:subject/>
  <dc:title>Слайд 1</dc:title>
</cp:coreProperties>
</file>